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284-65D2-4F34-8540-6AEF590D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D88-4FD5-4088-9E82-F157CDC3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836-C900-47E1-8487-E5606743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012-8D8E-482B-BF07-F7E1B838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7C2-9A65-4043-A374-24277900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BD0-B543-42CC-A241-9B9A579E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1DE-671C-41FA-8B3C-C2659256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68F-E05F-434A-96F1-A5878C0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449-3D3E-463C-AC28-EF83790E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214-02F1-44E4-A082-716A336C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D96-BDD4-4EEF-801E-DDEF020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4B8-DE4B-4D3C-B7A3-A0F3176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B7F2-EB03-4652-82B4-14B4AC2DD9B2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947A-FB4D-4356-89E0-0168D79EC229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2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ystem concepts and architecture team ov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ascal Lef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 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2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Dietrich Olf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Explorer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 App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tent Mgr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R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atab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ial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essag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el. Serv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S Termin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ulti Media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udio Policy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Voice Contro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dec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OS Kerne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Martin Kol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P Protoco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(OS Layer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Klaus Zapp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hem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tartup/Mod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ustomiz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ppl.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ync Servi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evice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Widget Lib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Jürgen Riepe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ootco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Non Consumer Driv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ustomized Driv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ccessor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Hans-Geog K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ase Ba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Gerhard Z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2G, 2.5G, 3G RF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M-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ntenna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Roland Djermest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SM/UMTS PS Stac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 Rou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 (text version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Jav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Ulrich Hub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ower Mgm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 H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nso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ichael Scheithau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Vide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DVB-H, DAB, DMB,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 acc. 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e - Cross cutting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 footprint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de size RAM, R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eap siz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mory consumption for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erformance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alf Oberheim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ulti media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chael Scheithau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ower consump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lrich Huber (acti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verall targets for platform provid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of target corridor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Guidelines for usage concep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ception handling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ccessorie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etwork Protocol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rtin Kold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umber of implementations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ook and Feel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ustomiza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PI standardization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echnology cluster mapp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125360"/>
          <a:ext cx="8305560" cy="461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305560" cy="46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New technologies – Contribu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arget: Make innovation quick, everywhere available with high re-use of development effor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llect and drive new ideas coming from technical reason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 evaluation/filtering of new topic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678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</a:t>
            </a:r>
            <a:br>
              <a:rPr sz="32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options and how it is handled toda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755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Identification of “Worst Case” Scenario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nticipation of System Performance can be based 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alcul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upplier Inquiri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stimation based on measuremen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Incorporation to M</a:t>
            </a:r>
            <a:r>
              <a:rPr b="0" lang="en-US" sz="3200" spc="-1" strike="noStrike">
                <a:solidFill>
                  <a:srgbClr val="3a0e66"/>
                </a:solidFill>
                <a:latin typeface="Symbol"/>
                <a:ea typeface="Symbol"/>
              </a:rPr>
              <a:t>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nd P</a:t>
            </a:r>
            <a:r>
              <a:rPr b="0" lang="en-US" sz="32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- Identification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utting edge applications in terms of computing performance  ar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inly multimedia applica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mplex scenario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herefore involve many component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st Case Scenarios are worked out in conjunction with CPM and T-Manage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e.g. „Video streaming of a music clip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i="1" lang="en-US" sz="2800" spc="-1" strike="noStrike">
                <a:solidFill>
                  <a:srgbClr val="3a0e66"/>
                </a:solidFill>
                <a:latin typeface="Minion"/>
              </a:rPr>
              <a:t> (H.264 QCIF 30fps, eAAC+), displayed rotated and scaled , with Bluetooth stereo headset in use“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– Calculation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446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PU Performance estimations are based on calculations with facts and experience under consideration of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che hit rat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mory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us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PU frequenc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mory access times (depending on external memory interfa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432320" y="1841400"/>
          <a:ext cx="429264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32320" y="1841400"/>
                    <a:ext cx="429264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79280" y="1844640"/>
            <a:ext cx="3745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076640"/>
            <a:ext cx="165564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F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CA setu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1341360"/>
            <a:ext cx="3168720" cy="4392720"/>
          </a:xfrm>
          <a:custGeom>
            <a:avLst/>
            <a:gdLst>
              <a:gd name="textAreaLeft" fmla="*/ 154440 w 3168720"/>
              <a:gd name="textAreaRight" fmla="*/ 3014280 w 3168720"/>
              <a:gd name="textAreaTop" fmla="*/ 154440 h 4392720"/>
              <a:gd name="textAreaBottom" fmla="*/ 4238280 h 4392720"/>
            </a:gdLst>
            <a:ahLst/>
            <a:rect l="textAreaLeft" t="textAreaTop" r="textAreaRight" b="textAreaBottom"/>
            <a:pathLst>
              <a:path w="21600" h="29943">
                <a:moveTo>
                  <a:pt x="3600" y="0"/>
                </a:moveTo>
                <a:arcTo wR="3600" hR="3600" stAng="16200000" swAng="-5400000"/>
                <a:lnTo>
                  <a:pt x="0" y="26343"/>
                </a:lnTo>
                <a:arcTo wR="3600" hR="3600" stAng="10800000" swAng="-5400000"/>
                <a:lnTo>
                  <a:pt x="18000" y="29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Generation &amp; Family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latform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Product to platform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M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  <a:ea typeface="Arial Unicode MS"/>
              </a:rPr>
              <a:t>Family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1341360"/>
            <a:ext cx="4176720" cy="439272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4392720"/>
              <a:gd name="textAreaBottom" fmla="*/ 4188960 h 4392720"/>
            </a:gdLst>
            <a:ahLst/>
            <a:rect l="textAreaLeft" t="textAreaTop" r="textAreaRight" b="textAreaBottom"/>
            <a:pathLst>
              <a:path w="21600" h="22717">
                <a:moveTo>
                  <a:pt x="3600" y="0"/>
                </a:moveTo>
                <a:arcTo wR="3600" hR="3600" stAng="16200000" swAng="-5400000"/>
                <a:lnTo>
                  <a:pt x="0" y="19117"/>
                </a:lnTo>
                <a:arcTo wR="3600" hR="3600" stAng="10800000" swAng="-5400000"/>
                <a:lnTo>
                  <a:pt x="18000" y="22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neric platform/product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Architecture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&amp;D 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3357720"/>
            <a:ext cx="4032000" cy="201600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Feasibility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verse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Performance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Technical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New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formance Lab – Supplier Inquiries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000680" y="1409760"/>
          <a:ext cx="495288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1409760"/>
                    <a:ext cx="4952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79280" y="1197000"/>
            <a:ext cx="388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llection of the worst case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nsistency check of the reply with consideration of the suppliers architecture and partitioning ( CPU, DSPs, HW acc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4076640"/>
            <a:ext cx="165564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5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erformance Lab – Estimation based on measurements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trapolation of “Worst Case” Scenarios on advanced platfor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( e.g. QCT 6280 ) based on measurements on existing platforms ( e.g. QCT 6250 )under consideration of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CPU clo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architectu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hanged memory syste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…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3280" y="836640"/>
          <a:ext cx="3797280" cy="50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836640"/>
                    <a:ext cx="379728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084720" y="4292640"/>
            <a:ext cx="1656000" cy="936720"/>
          </a:xfrm>
          <a:prstGeom prst="ellipse">
            <a:avLst/>
          </a:prstGeom>
          <a:solidFill>
            <a:srgbClr val="cc99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F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Generation &amp; Family strategy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</a:t>
            </a:r>
            <a:r>
              <a:rPr b="1" lang="en-US" sz="4000" spc="-1" strike="noStrike" baseline="-25000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 Outpu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0792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platform (SW + HW) portfolio incl. a mappi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market introduction strategy (only for revolutionary step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R&amp;D migration plan (only for revolutionary step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Arial"/>
              </a:rPr>
              <a:t>A level 1 architecture document („50 boxes“ with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black box / modify / implement areas and maintained interface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lus all the input data and market data which the decision is based 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593720"/>
            <a:ext cx="165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198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Wingdings"/>
                <a:ea typeface="Wingdings"/>
              </a:rPr>
              <a:t>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8144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upporte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ifferentia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</a:t>
            </a:r>
            <a:r>
              <a:rPr b="1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ontribu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latform assign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itial component selection (reduction of sourcing complexity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evelopment site proposal (by platform assignment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duct profile and portfolio align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dentify key development issues (e.g.: DRM solutions, context sensitive UI, USB HS, landscape mode, second display usage, virtual slider, …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General” technical feasibility and performance chec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05280" indent="-3052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edevelopment setup (for detailed feasibility studies and long term issue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</a:t>
            </a:r>
            <a:r>
              <a:rPr b="1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Outpu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duct overview provided to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curemen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OM calcul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PM and TPM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definition (in terms of technology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profile align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&amp;D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source and budget plann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General” feasibility and performance stateme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development Description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Architecture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e roadma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122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s is the „M1-document for the product plat-form“ and comprises the following chapters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op-Level Architectur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ystem Decomposi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Black Box / Modify / Implement Area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quirements and CRC cards (for finer granular components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cess View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Use Case Scenario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ystem Wide Concern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3716280"/>
            <a:ext cx="1154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869000"/>
            <a:ext cx="4105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3840" y="3716280"/>
            <a:ext cx="115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716280"/>
            <a:ext cx="712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3840" y="4797360"/>
            <a:ext cx="8353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rchitectural areas of wor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01080" y="587700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2360" y="40053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M/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St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3789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789360"/>
            <a:ext cx="50184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59280" y="450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6920" y="2708280"/>
            <a:ext cx="647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2340000"/>
            <a:ext cx="648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3213000"/>
            <a:ext cx="93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347920"/>
            <a:ext cx="122364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2349360"/>
            <a:ext cx="57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276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3284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981000"/>
            <a:ext cx="215640" cy="115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 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0792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9890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820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57120" y="12682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869000"/>
            <a:ext cx="43200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lay, Camer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pad,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4869000"/>
            <a:ext cx="432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87680" y="4869000"/>
            <a:ext cx="144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789360"/>
            <a:ext cx="50616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4869000"/>
            <a:ext cx="36036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344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us Za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596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trich Ol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34880" y="54936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ld Stöc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360" y="54936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ven 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3214800"/>
            <a:ext cx="8636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214800"/>
            <a:ext cx="936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2349360"/>
            <a:ext cx="1223640" cy="781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351160"/>
            <a:ext cx="576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8200" y="379080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3800" y="54936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f Ka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71640" y="3790800"/>
            <a:ext cx="863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66920" y="2709720"/>
            <a:ext cx="6476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2341440"/>
            <a:ext cx="64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4870440"/>
            <a:ext cx="43200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880" y="5493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K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800" y="54936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ürgen Ri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5240" y="549360"/>
            <a:ext cx="177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Georg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4880" y="54936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hard Z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4880" y="549360"/>
            <a:ext cx="180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and Djer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33800" y="54936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rich Hu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34880" y="549360"/>
            <a:ext cx="196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Scheith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6165720"/>
            <a:ext cx="273708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ntionally not in SCA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6381720"/>
            <a:ext cx="27370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ing expertise or headcount within S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6597720"/>
            <a:ext cx="27370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 covered by listed SCA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ascal Lefevre</cp:lastModifiedBy>
  <dcterms:modified xsi:type="dcterms:W3CDTF">2006-05-15T09:35:05Z</dcterms:modified>
  <cp:revision>177</cp:revision>
  <dc:subject/>
  <dc:title>PowerPoint 簡報</dc:title>
</cp:coreProperties>
</file>